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902825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6829-D30E-4F16-BEF1-6455F219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97400" y="663120"/>
            <a:ext cx="8307000" cy="103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672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9479-9E26-41A2-9DC3-A30C5437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97400" y="663120"/>
            <a:ext cx="8307000" cy="103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7988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672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7988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2DD1-F1C3-4E9F-886A-42C4F77D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97400" y="663120"/>
            <a:ext cx="8307000" cy="103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252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5868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672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252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5868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A45B-FD09-477D-8EDF-5EA9782C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97400" y="663120"/>
            <a:ext cx="8307000" cy="103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672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B781-1AD0-4CF2-8F15-83F159CF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7400" y="663120"/>
            <a:ext cx="8307000" cy="103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2E99-3378-4155-9B6A-68C8C3BC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97400" y="663120"/>
            <a:ext cx="8307000" cy="103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988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B599-1ED1-4C09-BF11-D00380C3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97400" y="663120"/>
            <a:ext cx="8307000" cy="103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181F-BFDC-48AF-BE67-4F87D05A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97400" y="663120"/>
            <a:ext cx="83070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EA6D-2808-4A89-A3A7-F452F05E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97400" y="663120"/>
            <a:ext cx="8307000" cy="103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988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672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F801-4F19-4D6C-9BD0-8471B864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97400" y="663120"/>
            <a:ext cx="8307000" cy="103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988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7988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ED10-B644-46CB-875E-2AA0E970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97400" y="663120"/>
            <a:ext cx="8307000" cy="103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988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672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DE42-60AB-4926-98E9-D1C36825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7400" y="663120"/>
            <a:ext cx="8307000" cy="1036080"/>
          </a:xfrm>
          <a:prstGeom prst="rect">
            <a:avLst/>
          </a:prstGeom>
          <a:noFill/>
          <a:ln w="25560">
            <a:solidFill>
              <a:srgbClr val="cc00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672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09680" y="6248520"/>
            <a:ext cx="143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4264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UNEP Collaborating Centre on Energy and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9460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541001C-4FB2-4D27-B7CE-B4F19886244E}" type="slidenum">
              <a:rPr b="0" i="1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073160" y="6172200"/>
            <a:ext cx="8334360" cy="0"/>
          </a:xfrm>
          <a:prstGeom prst="line">
            <a:avLst/>
          </a:prstGeom>
          <a:ln w="1260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228600" y="6095880"/>
          <a:ext cx="552600" cy="6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095880"/>
                    <a:ext cx="55260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" name=""/>
          <p:cNvGraphicFramePr/>
          <p:nvPr/>
        </p:nvGraphicFramePr>
        <p:xfrm>
          <a:off x="1117440" y="6269040"/>
          <a:ext cx="1020960" cy="357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17440" y="6269040"/>
                    <a:ext cx="10209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84800" y="1717920"/>
            <a:ext cx="8333280" cy="1059480"/>
          </a:xfrm>
          <a:prstGeom prst="rect">
            <a:avLst/>
          </a:prstGeom>
          <a:noFill/>
          <a:ln w="25560">
            <a:solidFill>
              <a:srgbClr val="cc00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Mitigation Cost Assessmen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402920" y="3123720"/>
            <a:ext cx="693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John “Mac” Callawa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atin American and Caribbean Conference on  Greenhouse Gas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Quito, Ecuador, May 21-22, 1998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408C-7ED1-415E-A9F0-95CDB0D7BD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97400" y="663120"/>
            <a:ext cx="8307000" cy="1036080"/>
          </a:xfrm>
          <a:prstGeom prst="rect">
            <a:avLst/>
          </a:prstGeom>
          <a:noFill/>
          <a:ln w="25560">
            <a:solidFill>
              <a:srgbClr val="cc00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Key issues (cont.)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ost mitigation assessments do not consider how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environmental policie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can be used to create incentives for implementing GHG reduction measur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rnational polici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mestic polici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gula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axes and subsidi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missions/offset trad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Joint implementa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21CD-CB96-408A-BEEB-BBBA409F40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797400" y="663120"/>
            <a:ext cx="8307000" cy="1036080"/>
          </a:xfrm>
          <a:prstGeom prst="rect">
            <a:avLst/>
          </a:prstGeom>
          <a:noFill/>
          <a:ln w="25560">
            <a:solidFill>
              <a:srgbClr val="cc00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re we finished?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2600" indent="-282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No, areas of further development includ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5888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widening and integrating the community of experts, policy makers, etc. involved in doing this wor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5888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pecial emphasis on building capacity to assess non-energy options and integrating experts in these fields with energy sector expert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5888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gathering better data and organising into more comprehensive data bases for future mitigation studie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5888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mproving our sectoral models, hopefully to combine bottom-up and top-down approaches at the sectoral level to take into account market effect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8FFF-76A6-40FF-B7A6-A490CD8582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11440" y="295560"/>
            <a:ext cx="8278920" cy="1389240"/>
          </a:xfrm>
          <a:prstGeom prst="rect">
            <a:avLst/>
          </a:prstGeom>
          <a:noFill/>
          <a:ln w="25560">
            <a:solidFill>
              <a:srgbClr val="cc00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hy assess mitigation costs?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74040" indent="-37404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EF project: Economics of GHG Limita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74040" indent="-37404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s input to “current” National Communications under FCCC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74040" indent="-37404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o help identify cost-effective options for implementation under Kyoto and future protocol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74040" indent="-37404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o set national priorities for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45280" indent="-2826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velopment plann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845280" indent="-28260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omestic action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74040" indent="-37404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Learning/capacity build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74040" indent="-37404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ho knows what will come up?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0FC0-0371-454F-BC38-DD1FFEDEDB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97400" y="663120"/>
            <a:ext cx="8307000" cy="1036080"/>
          </a:xfrm>
          <a:prstGeom prst="rect">
            <a:avLst/>
          </a:prstGeom>
          <a:noFill/>
          <a:ln w="25560">
            <a:solidFill>
              <a:srgbClr val="cc00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teps in Cost Assessmen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.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Develop macro-economic projection of baseline developmen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I.  Project emissions and costs for baseline in relevant sector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II. Develop mitigation scenarios for relevant sector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V. Estimate emissions and costs for mitigation scenarios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.  Estimate emissions reductions and incremental costs for relevant sector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I.  Develop mitigation cost curves for relevant sectors, and, if possible an aggregate cost curve for all of the sector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VII. Report results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B09A-930A-429D-A274-7B1955E881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97400" y="434520"/>
            <a:ext cx="8307000" cy="1036080"/>
          </a:xfrm>
          <a:prstGeom prst="rect">
            <a:avLst/>
          </a:prstGeom>
          <a:noFill/>
          <a:ln w="25560">
            <a:solidFill>
              <a:srgbClr val="cc0099"/>
            </a:solidFill>
            <a:miter/>
          </a:ln>
        </p:spPr>
        <p:txBody>
          <a:bodyPr lIns="92160" rIns="92160" tIns="76320" bIns="7632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What kinds of costs to assess?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Financial costs: project outlays of money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Economic = opportunity costs: value of real resources foregone by a project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Private costs: opportunity costs that arise in market transactions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External costs: opportunity costs from activities that are not accounted for by agents causing them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Social costs = private costs + external costs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Which costs to assess depends on ……..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t’s helpful to know all of them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9630-0A58-4577-8E43-503834860D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15320" y="510120"/>
            <a:ext cx="8308800" cy="1036440"/>
          </a:xfrm>
          <a:prstGeom prst="rect">
            <a:avLst/>
          </a:prstGeom>
          <a:noFill/>
          <a:ln w="25560">
            <a:solidFill>
              <a:srgbClr val="cc00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OK, but what are incremental costs?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dditional cost incurred when a mitigation project is undertaken with GEF financing, compared to project that would have been built without the financ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n institutional, not an economic definitio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cremental costs can be either financial or economic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hat would have been built without the GEF support: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arket approach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ocial accounting approach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usiness as usual approach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trategic approach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5CD6-17B1-458A-A9C8-12D860A3EB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15320" y="510120"/>
            <a:ext cx="8308800" cy="1036440"/>
          </a:xfrm>
          <a:prstGeom prst="rect">
            <a:avLst/>
          </a:prstGeom>
          <a:noFill/>
          <a:ln w="25560">
            <a:solidFill>
              <a:srgbClr val="cc00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Some key issues in mitigation cost assessmen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spcAft>
                <a:spcPts val="675"/>
              </a:spcAft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System boundaries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675"/>
              </a:spcAft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Economic opportunity costs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675"/>
              </a:spcAft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The” baseline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675"/>
              </a:spcAft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No regrets actions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675"/>
              </a:spcAft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Leakages  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675"/>
              </a:spcAft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Implementation costs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spcAft>
                <a:spcPts val="675"/>
              </a:spcAft>
              <a:buClr>
                <a:srgbClr val="000099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700" spc="-1" strike="noStrike">
                <a:solidFill>
                  <a:srgbClr val="000099"/>
                </a:solidFill>
                <a:latin typeface="Arial"/>
              </a:rPr>
              <a:t>Policies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spcAft>
                <a:spcPts val="675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A2C6-E514-4FAE-BF03-C8E3B6CD9A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15320" y="510120"/>
            <a:ext cx="8308800" cy="1036440"/>
          </a:xfrm>
          <a:prstGeom prst="rect">
            <a:avLst/>
          </a:prstGeom>
          <a:noFill/>
          <a:ln w="25560">
            <a:solidFill>
              <a:srgbClr val="cc00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Key issues (cont.)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Arial"/>
              </a:rPr>
              <a:t>Even though </a:t>
            </a:r>
            <a:r>
              <a:rPr b="0" lang="en-US" sz="1900" spc="-1" strike="noStrike" u="sng">
                <a:solidFill>
                  <a:srgbClr val="000099"/>
                </a:solidFill>
                <a:uFillTx/>
                <a:latin typeface="Arial"/>
              </a:rPr>
              <a:t>system boundaries</a:t>
            </a:r>
            <a:r>
              <a:rPr b="0" lang="en-US" sz="1900" spc="-1" strike="noStrike">
                <a:solidFill>
                  <a:srgbClr val="000099"/>
                </a:solidFill>
                <a:latin typeface="Arial"/>
              </a:rPr>
              <a:t> may be well-defined, it can be hard to account for costs/emissions changes in linked sectors: 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Arial"/>
              </a:rPr>
              <a:t>changes in technology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Arial"/>
              </a:rPr>
              <a:t>changes in input/output price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Arial"/>
              </a:rPr>
              <a:t>price changes and their effects are hard to estimate using bottom-up models 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 u="sng">
                <a:solidFill>
                  <a:srgbClr val="000099"/>
                </a:solidFill>
                <a:uFillTx/>
                <a:latin typeface="Arial"/>
              </a:rPr>
              <a:t>Economic opportunity costs</a:t>
            </a:r>
            <a:r>
              <a:rPr b="0" lang="en-US" sz="1900" spc="-1" strike="noStrike">
                <a:solidFill>
                  <a:srgbClr val="000099"/>
                </a:solidFill>
                <a:latin typeface="Arial"/>
              </a:rPr>
              <a:t> include </a:t>
            </a: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both </a:t>
            </a:r>
            <a:r>
              <a:rPr b="0" lang="en-US" sz="1900" spc="-1" strike="noStrike">
                <a:solidFill>
                  <a:srgbClr val="000099"/>
                </a:solidFill>
                <a:latin typeface="Arial"/>
              </a:rPr>
              <a:t>changes in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Arial"/>
              </a:rPr>
              <a:t>production cost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Arial"/>
              </a:rPr>
              <a:t>changes in revenues 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Arial"/>
              </a:rPr>
              <a:t>can be combined as changes in profits</a:t>
            </a:r>
            <a:endParaRPr b="1" lang="en-US" sz="1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Arial"/>
              </a:rPr>
              <a:t>price changes and their effects are hard to estimate using bottom-up models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54B7-1D45-49A0-BE4B-E8E97EF9B7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15320" y="510120"/>
            <a:ext cx="8308800" cy="1036440"/>
          </a:xfrm>
          <a:prstGeom prst="rect">
            <a:avLst/>
          </a:prstGeom>
          <a:noFill/>
          <a:ln w="25560">
            <a:solidFill>
              <a:srgbClr val="cc00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Key issues (cont.)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e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base lin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is not observed, so how will it be constructed: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arket driven (market models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cenario driven (bottom-up model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reates opportunities to create “strategic” baselines that affect incremental cost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o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regrets action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have very low or negative costs, but are not being implemented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sts aren’t accurat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ome costs are left ou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aseline isn’t realistic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re no regrets in the best interests of developing countries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D0F2-2B73-4037-94AA-8A357DAB47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899460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CFA9A31-BA7E-40D8-A758-BEAFCE3B88CF}" type="slidenum">
              <a:rPr b="0" i="1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657240" y="6248520"/>
            <a:ext cx="4264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r>
              <a:rPr b="0" i="1" lang="en-US" sz="1400" spc="-1" strike="noStrike">
                <a:solidFill>
                  <a:srgbClr val="000099"/>
                </a:solidFill>
                <a:latin typeface="Arial"/>
              </a:rPr>
              <a:t>UNEP Collaborating Centre on Energy and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03520" y="668880"/>
            <a:ext cx="8294760" cy="1189080"/>
          </a:xfrm>
          <a:prstGeom prst="rect">
            <a:avLst/>
          </a:prstGeom>
          <a:noFill/>
          <a:ln w="25560">
            <a:solidFill>
              <a:srgbClr val="cc00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Key issues (cont.)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Leakage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of carbon occur when a project indirectly increases CO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emissions someplace else in the economy, for example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lowing deforestation in one place increases it another pla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ducing use of manure as a fertiliser increases emissions to produce inorganic fertilis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ese leakages are hard to estimate without market mode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Implementation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costs are often ignored, making some activities look unrealistically attractive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ministration costs: Costs of planning, training, administration and monitoring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arrier removal costs: Costs of improving institutional capacity, reducing risk and uncertainty, enhancing market transactions, enforcing regulatory polici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9T14:42:02Z</dcterms:created>
  <dc:creator>Gordon A. Mackenzie</dc:creator>
  <dc:description/>
  <dc:language>en-US</dc:language>
  <cp:lastModifiedBy>Juan Zak</cp:lastModifiedBy>
  <cp:lastPrinted>1998-05-10T22:17:52Z</cp:lastPrinted>
  <dcterms:modified xsi:type="dcterms:W3CDTF">1998-05-10T22:30:03Z</dcterms:modified>
  <cp:revision>32</cp:revision>
  <dc:subject/>
  <dc:title>Climate Change Mitigation in Southern Africa: Zambia study</dc:title>
</cp:coreProperties>
</file>