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E6B-5ED6-4D01-9A6D-E1589F37E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39C1-5788-40D6-BEA5-84B6EA90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0B4-E707-43EE-AE25-0940E5F3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A2B-9A27-4774-913D-644CE153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952E-5CCC-4B9E-A15E-6ED4E4FB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3163-4DB9-47B6-83E3-8632833D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CC55-7A27-43AD-AAF7-AE93A729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D3BC-F464-4405-9AFA-A3E5FDBC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4611-0EA6-47C3-BB68-50E993F2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433E-8733-424D-B0B7-4B49EC95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CCC6-56B6-4137-ADBE-51A05AED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722-B424-4735-9965-22E529B1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9D0D-6040-4C14-B5F3-D733C891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CED0-6B18-452C-AC5F-72D231B0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6930-56E1-4961-8970-328569A0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45FE-F810-456B-9741-D29C73F4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26EB-9EB2-48B9-A940-D50B3AB8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125-A233-4097-B7A8-25931826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4816-D718-4E5D-81A4-9F69A44A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299B-3380-4EF5-B669-0EFBA93A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9800-3125-40B3-96D6-EA10EB93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A84-2891-420A-9629-050EA07A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37D2-A690-46D6-80DF-81DD9963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2BA9-80E9-4BF6-8012-0DE5D2FD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EEFB-257F-4823-A676-4D323D4D4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F3A5-A215-4C73-85F1-70F6273C4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ff"/>
                </a:solidFill>
                <a:latin typeface="Times New Roman"/>
              </a:rPr>
              <a:t>Panel Intergubernamental sobre Cambio Clim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ff"/>
                </a:solidFill>
                <a:latin typeface="Times New Roman"/>
              </a:rPr>
              <a:t>Historia, labor y perspec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ercer Informe de 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be ser  completo y cubrir el rango total de temas científicos, técnicos, económicos y sociales asociados con el sistema climático y los asuntos sobre cambio climático estimados importantes por las comunidades de expertos y de niveles de dec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umen de lo presentado en los dos informes anteri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oda la información surgida a partir del segundo inf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foque global, enfatizando aspectos reg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structura Probable del Informe del III Grupo de Trabajo (Mitigación)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otencial técnico, económico y de mercado (PTEM)  de las tecnologías y prácticas para reducir emisiones de gases de efecto invernadero (GE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ubcapítulo especial: Oferta de energía: Producción, extracción, conversión y distribución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TEM para mejorar la remoción de G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arreras al uso efectivo, difusión y transferencia de tecnologías y prác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structura Probable del Informe del III Grupo de Trabajo (Mitigación)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fectividad de las políticas y medidas para aprovechar el potencial de las tecnolog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de escenarios de mitig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regional y global de costos y beneficios y de consecuencia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de los impactos de la mitigación sobre otros paí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ma de decisiones: alcances y negocia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rganización del Grupo de Trabaj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133720"/>
            <a:ext cx="2667240" cy="12952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nex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Bert Met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2209680"/>
            <a:ext cx="2895480" cy="129564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Anex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Ogunlade David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4343400"/>
            <a:ext cx="1295280" cy="10666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O. David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4343400"/>
            <a:ext cx="1295280" cy="10666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E. Calv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4343400"/>
            <a:ext cx="1295280" cy="10666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mér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l N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unasingh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4343400"/>
            <a:ext cx="1295280" cy="10666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R. Sutamihardj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4343400"/>
            <a:ext cx="1295280" cy="10666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E. Joch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67480" y="4343400"/>
            <a:ext cx="1295640" cy="10666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(R.Pis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819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295280" y="2819160"/>
            <a:ext cx="30481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666880" y="2819160"/>
            <a:ext cx="16765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3400" y="2819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43400" y="2819520"/>
            <a:ext cx="12193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819520"/>
            <a:ext cx="22096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2819520"/>
            <a:ext cx="342900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1751400"/>
            <a:ext cx="210528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- Presi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92960" y="5637600"/>
            <a:ext cx="3656880" cy="459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ce Presidentes Reg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tros infor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forme especial sobre temas Metodológicos y Tecnológicos en Transferencia de 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forme especial sobre Aviación y la Atmósfera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forme especial sobre Escenarios de Em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visión de los de 199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ros por definir de acuerdo a Kio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ineamientos para inven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ron parte del Informe Especial para el Año 19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ueron aceptados por el Protocolo de Kioto como herramientas para la preparación de los Inventarios Nacionales de Emisión de Gases de Efecto Invernader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n preparados por el grupo: IPCC/IEA/OE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ructura de los lineami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bren seis sect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s Indust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solv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i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mbio de uso de suelo y silvi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bren todos los Gases de Efecto Invernadero no cubiertos por el Protocolo de Mont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ineamientos para el Sector Ener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misiones Medid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so de combustibles fós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étodos simples (alcance refere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étodos detal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misiones fugi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minería y manipulación de carb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extracción, proceso y distribución de petróleo y gas na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rabajo futuro en lineami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los lineamientos se de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visar de acuerdo a nueva información de las 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monizar con otras metodologías nacionales o inter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ualizar los factores de emisión y los valores por defec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tinuar el trabajo en el sector de Cambio de Uso del Suelo y Manejo Forestal (Silvicultu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¿Qué es el IPCC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s un grupo intergubernamental de expertos sobre cambio climátic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s coordinado por la Organización Meteorológica Mundial (OMM) y el Programa de las Naciones Unidas para el Medio Ambiente  (PNUM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actos con el IP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Intern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ttp://www.ipcc.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rreo Electró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PCC_Sec@gateway.wmo.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presentantes Latinoameric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rupo I:   Armando Ramírez (Venezuela)  Fax.5826052168/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rupo II:  Osvaldo Canziani (Argentina)    Fax:541 98248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rupo III: Eduardo Calvo (Perú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Fax:511 22553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incip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pertura y transpar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orradores libres y a disposición de expe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bertura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os los aspectos relevantes para la política de cambio climá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ur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úsqueda de consen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sentación de evidencia contradic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isión del IP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poyar el avance de la Convención Marco sobre Cambio Climático , en coordinación con su Conferencia de las Partes y  su Organo Subsidiario de Asistencia  Científica y Técn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rganización del IPCC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1981080"/>
            <a:ext cx="190476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1981080"/>
            <a:ext cx="190476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22096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2209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N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3429000"/>
            <a:ext cx="18288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P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R. Wat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971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952880" y="2971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3429000"/>
            <a:ext cx="23623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3427920"/>
            <a:ext cx="2210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creta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N. Sundararama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3886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5029200"/>
            <a:ext cx="22860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5029200"/>
            <a:ext cx="236196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5029200"/>
            <a:ext cx="22860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361960" y="44197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4419720"/>
            <a:ext cx="19810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87400" y="5226120"/>
            <a:ext cx="23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upo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180040"/>
            <a:ext cx="23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upo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00800" y="5180040"/>
            <a:ext cx="23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upo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Grupos de Trabajo Originales (Primer Informe de Evaluació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valuación de información científica disponible sobre C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valuación de impactos socioeconómicos y ambientales del 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ormulación de estrategias de respue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ublic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imer Informe de 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forme Espe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zamiento Radiativo del Cambio Cli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valuación de Escenarios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neamientos Técnicos del IPCC para evaluar Impactos y Adaptaciones al Cambio Cli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neamientos para los Inventarios 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undo Informe de 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ocumentos y Apéndices Téc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ructura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es grupos de trabaj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RUPO I : Aspectos científicos del sistema climático y del cambio climá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RUPO II: Aspectos científicos, técnicos, ambientales, económicos y sociales (CTAES) de la vulnerabilidad al cambio climático e impactos sobre sistemas ecológicos, sectores socioeconómicos y salud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RUPO III: Aspectos CTAES de la mitigación del cambio climático y asuntos transsector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bor actual del IP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eparar el Tercer Informe de Evaluación al año 200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eparar otros informes considerados necesarios para el Avance de la Conven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finar los lineamientos empleados en los inven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6T17:43:40Z</dcterms:created>
  <dc:creator>Eduardo Calvo</dc:creator>
  <dc:description/>
  <dc:language>en-US</dc:language>
  <cp:lastModifiedBy>MODELO SUPER/OLADE-BID</cp:lastModifiedBy>
  <dcterms:modified xsi:type="dcterms:W3CDTF">1998-05-22T18:35:32Z</dcterms:modified>
  <cp:revision>2</cp:revision>
  <dc:subject/>
  <dc:title>Panel Intergubernamental sobre Cambio Climático</dc:title>
</cp:coreProperties>
</file>