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C1C-1C2A-488A-8B87-E03B4BF2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56E0-7AFF-4F8E-BD10-4E0075DE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D08-CEB1-4CF7-BDDB-D8F7B8EE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28F-6A6F-4BEA-8019-3D19397D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1DB-4DC1-4506-8D25-1AD6825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AD2F-9B1C-48A1-AA2E-12FD3E67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5EB-1CDE-4D4C-92CD-CBFFA675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AD2-C515-4DE2-83E7-CAA13A65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9EE-037D-4D1B-B273-8FD43626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35E-1035-4582-A6EB-77531831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763-D176-41CB-B693-0851EDB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BA9-2674-4295-B939-45648DB2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B9F7-5868-421A-B565-7E1ED5361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</a:rPr>
              <a:t>Hacia el Desarrollo Sostenible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ccff"/>
                </a:solidFill>
                <a:latin typeface="Times New Roman"/>
              </a:rPr>
              <a:t>Empresas Para el Capital Social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inisterio de Medio Amb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s de Ahorro de Agua y Energía para Socializar la Priva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s de “ ECOENERGIA” para elTransporte y Servici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112160" y="4343400"/>
          <a:ext cx="2030400" cy="25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2160" y="4343400"/>
                    <a:ext cx="2030400" cy="25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ecedent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o Creciente Per Cáp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Oferta Energía y Agua y el IDH ([Indice de Desarrollo Huma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tización vs. Ahorro y Uso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“paradoja Energética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en las  Tecnologías, económicamente es positivo, pero la SOCIEDAD NO Proc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reras Institucionales e individ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0" y="304920"/>
          <a:ext cx="1905120" cy="22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04920"/>
                    <a:ext cx="19051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Pas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ción-Auditoría Energética y de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ación de medidas y Artefactos de Aho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rtización de Costo mediante factura mensual de servicio, suponiendo consumo actual como si no se hubiera instalado la estrategia de ahorro.(No costo para el usuario!!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vez amortizados los equípos, adquisición de ACCIONES (STOCK) por parte del usuario si continúa pagando suma mayor a consumo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resultado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horro Físic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lazamiento de Expansiones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ción de Ahorro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a del Mercado Acc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cratización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pacidad de Expansión Aseg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ción de Empleo y Desarroll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mento de Demanda por Eventual Compra de Empresas de Servicios Publicos por los accionistas de Las Empresas de Ahor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10400" y="0"/>
            <a:ext cx="2433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76320" y="1905120"/>
            <a:ext cx="9296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 VIGENTE                              BAL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ismo                               Solidarida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“Linearidad” Causa-Efecto    Lo “sistémico”, lo COMPL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or = Precio                                Valor = Precio +opción+ex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vidad “Privada”              “Sostenibilidad efici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to plazo)                                    (a largo plaz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consumidor abstracto”           “La necesidad soci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ir para exportar                 Producir para generar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09600" y="57240"/>
            <a:ext cx="71629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Times New Roman"/>
              </a:rPr>
              <a:t>Los “Principios” Filosóficos/Etico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Los Paradigmas)   (cont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6320" y="297180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888840" y="44280"/>
          <a:ext cx="1117800" cy="15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44280"/>
                    <a:ext cx="111780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 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ás que el PIB per cápita anu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CAPACIDAD de un pueblo o nación , de identificar , discutir, concertar y solucionar los problemas que se le presentan al paso del tiempo a los menores costos sociales ,económicos y ecológic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HABILIDAD de un pueblo o nación de mantener y aprovechar su riqueza cultural y natural para lograr una mejor calidad de vida y satisfacción social para esta generación y las siguient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79250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0" y="46080"/>
            <a:ext cx="1390680" cy="89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60880" y="1660680"/>
            <a:ext cx="147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933640" y="514440"/>
          <a:ext cx="336564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3640" y="514440"/>
                    <a:ext cx="336564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419040" y="1962000"/>
          <a:ext cx="3365640" cy="291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040" y="1962000"/>
                    <a:ext cx="336564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2857680" y="3409920"/>
          <a:ext cx="3365280" cy="29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3409920"/>
                    <a:ext cx="33652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480" y="0"/>
            <a:ext cx="19969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1080" y="1508040"/>
            <a:ext cx="155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0520" y="2955960"/>
            <a:ext cx="163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20280" y="2803680"/>
            <a:ext cx="1876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1680" y="4175280"/>
            <a:ext cx="2518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V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72280" y="1962000"/>
          <a:ext cx="3365280" cy="291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72280" y="1962000"/>
                    <a:ext cx="3365280" cy="29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080760" y="3108240"/>
            <a:ext cx="146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80760" y="3489480"/>
            <a:ext cx="187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Century Schoolbook"/>
              </a:rPr>
              <a:t>EL  CAPITAL  CIVICO INSTITUC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iones  colectivas  volun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arrollo  y  fortalecimiento 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ción  Intersectorial y  coherencia  del 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luntad  de  respeto  y  cumplimiento  a  las Leyes 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86440" y="5300640"/>
            <a:ext cx="1952640" cy="1328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370640" y="6051600"/>
            <a:ext cx="1771920" cy="804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16002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440" y="361800"/>
          <a:ext cx="134316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361800"/>
                    <a:ext cx="13431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829640" y="884160"/>
            <a:ext cx="1238040" cy="798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CAPITAL SOCIAL Y PARTICIPACION CIUDA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aumento de  Capital Social como el verdadero parámetro de Desarro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apital Cívico e Institucional como el “cemento” de los otros tres capitales: Humano, Artificial y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cisión colectiva vs. la preferencia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rticipación “Reactiva”: Acción popular , acción de tutela, audiencias públicas , plebis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participación “Proactiva”: Consejos Nacional y Territoriales de Planeación, Juantas Administradoras Locales, Acción Comu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ógías, criterios y Experi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380880" y="1085760"/>
            <a:ext cx="9829800" cy="56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522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c03"/>
                </a:solidFill>
                <a:latin typeface="OldTown-WP"/>
              </a:rPr>
              <a:t>LA GESTION AMBIENTAL DEL 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320760" y="2193840"/>
            <a:ext cx="8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981080"/>
            <a:ext cx="28242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st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entr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speci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me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ard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fl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islada “egoí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sarticu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ve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m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Legal/restr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serva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xcluy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304920" y="1905120"/>
            <a:ext cx="967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1981080"/>
            <a:ext cx="497376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articip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scentr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rdiscipl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rsec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o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even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certa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Solidaria/coordi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rticu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lternativa/Innov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certadora/Comprometed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ultural/estimu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so sosten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Incluy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7360" y="1309680"/>
            <a:ext cx="136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76360" y="1233360"/>
            <a:ext cx="221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77160" y="1096920"/>
            <a:ext cx="7564320" cy="702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PARTICIPACION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CIUDAD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14760" y="2986200"/>
            <a:ext cx="23396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A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117960" y="3309840"/>
          <a:ext cx="50338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3309840"/>
                    <a:ext cx="50338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DESARROLLO URBANO SOSTEN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iudad como expresión tecnológica y como sistema artificialy cul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ión Ciudad-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reto de la “Entropía” Urbana..Solucione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zación y Ciu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4495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Ahorro y Uso Eficiente de Energía y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Transporte Altern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uso y Reaprovechamiento, Recicl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Patrones de Asentamiento y Distribución Pobl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ENERGIA, AMBIENTE Y DESARROLLO SOSTEN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umento significativo en el IDH se relaciona con un consumo mínimo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s Alternativa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orro y el Uso Eficient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ta 1000 a 1200 kilos equivalentes de Petroleo logran elevar el nivel del IDH hasta 0.8 o má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patrón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 más importante es el “Servicio Energético”, no la cantidad de energía consu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1T22:03:10Z</dcterms:created>
  <dc:creator>Carlos Fonseca</dc:creator>
  <dc:description/>
  <dc:language>en-US</dc:language>
  <cp:lastModifiedBy>MODELO SUPER/OLADE-BID</cp:lastModifiedBy>
  <dcterms:modified xsi:type="dcterms:W3CDTF">1998-05-22T18:24:10Z</dcterms:modified>
  <cp:revision>1</cp:revision>
  <dc:subject/>
  <dc:title> Hacia el Desarrollo Sostenible  Empresas Para el Capital Social Ministerio de Medio Ambiente</dc:title>
</cp:coreProperties>
</file>