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9E3-C4D2-4E6A-A7DA-79E8F8851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E5D-2436-41C2-BCD8-3DADEE55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A0A4-A41D-4F61-A97A-93D2D5F8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806-FA3B-4E35-8E15-E9CE1661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203F-A92D-4491-9CFB-D1241D59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475-A9EB-49A3-AFF3-8542EAC2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376-86E5-44C0-B63B-B9873AB5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618-CC92-42BE-848C-6EB3958C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4EF-494F-428A-BE73-FB6E5F6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0828-A7F8-41A5-B45E-E7B1B5B3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4B0-B0AF-4FC6-A2E3-6EFE2788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F4CD-989D-4DE7-A510-ADE21ABC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8479-5441-4B04-AD1F-56AEE48B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EBATE SOBRE EL CAMBIO CLIMATICO EN OL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ando Meleá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tor de Planificación y Proyectos Energé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é es OL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ón intergubern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 ámbito de actuación es el sector energé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da por 26 países de América Latina y el Ca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s Países Miembros de OLADE y la Convención Marco de Cambio Clim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íses Miembros de OLADE no son parte del Anexo 1 de la Convención 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dad en cuanto a vulnerabilidad respecto a las estrategias de mitigación y al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dad de opiniones respecto al 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queños estados ins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es exportadores de energías fó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íses importadores de energías fós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osistemas frág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ción marginal de América Latina en las emisiones mund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onología del debate en OL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ADE no tuvo participación relevante en la etapa preparatoria de la Conferencia Río 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rtir de 1992 aproximación de organismos financier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febrero 1997 Reunión Control y Seguimiento se da el primer debate al interior de la 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transcurso de 1997 se intensifica el intercambio de opiniones sobre el 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onología del debate en OLA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rt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ADE formaliza su participación en 1997 en reuniones y eventos promovidos por la Secretaría de la Convención Marco como observ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del tema en Reunión de Ministros de Montevideo noviembre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ón 335. Reunión Técnica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yecto UNEP/GEF “Aspectos Económicos de la Limitación de Gases Invernade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aller Subregional Andino, mayo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minario Latinoamericano y del Caribe sobre Gases de Efecto Invernadero, mayo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 de OLADE y el tema ambi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 y Desarrollo Sostenible OLADE/CEPAL/G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ejo de la demanda y uso eficiente de energía eléctrica CE/O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stmo Centroameri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unidad Andina de N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spectiva energética considerando efectos del Protocolo de Ki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 de desarrollo energético Quebec/O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entes nuevas y renovables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limpias en la generación eléctrica (Outcome 2, Simposio Hemisférico de Ener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ado de Reunión Técnica sobre Gases de Efecto Invernadero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iciar mayor participación del sector energía en el tema cambio climático al interior de los Países Miemb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izar análisis retrospectivos y prospectivos sobre la evolución de las emisiones de gases de invernadero del sector energético de ALC y comparación con otras reg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ultado de Reunión Técnica sobre Gases de Efecto Invernadero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1360" indent="-26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ifundir y asistir a los Países Miembros en lo referente a elegibilidad, certificación y diseño de su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corporar el tema de gases efecto invernadero como criterio de eligibilidad de los proy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-26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erminar costos y alternativas de finan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s recomendaciones serán llevadas a la consideración de la Reunión de Ministros de OLADE de noviembre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2T01:51:24Z</dcterms:created>
  <dc:creator>MODELO SUPER/OLADE-BID</dc:creator>
  <dc:description/>
  <dc:language>en-US</dc:language>
  <cp:lastModifiedBy>Juan Zak</cp:lastModifiedBy>
  <dcterms:modified xsi:type="dcterms:W3CDTF">1998-05-26T20:58:50Z</dcterms:modified>
  <cp:revision>13</cp:revision>
  <dc:subject/>
  <dc:title>EL DEBATE SOBRE EL CAMBIO CLIMATICO EN OLADE</dc:title>
</cp:coreProperties>
</file>