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DC67-28A3-41EB-9ED2-7B3D71CE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A7A-347C-4506-B8E4-2126E744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DC47-D874-40DD-BBA4-41AB3628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FE36-AA78-466D-B16C-AB194EC4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8BF0-0F54-4D14-8742-4A9ABF25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E94E-EB2F-42B4-A5E1-8CABCF1D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04B6-E7E1-4157-8AA1-A3A0E5EB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B956-38FC-48C7-B4BF-E3FE6C82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29D2-65C4-495C-B2D7-C3EA7A89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FDDF-CD77-4B66-9E49-56B5943C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76C7-AE47-4F25-8EA4-0A7F617E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A0D-048D-4083-AC33-09BC63E2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086E-A609-4D61-BB22-B1F9510D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4A79-97BA-4DCA-B892-59952A49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FDE3-E716-4569-A6E0-DDC449EE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5C7C-EB1A-4463-B6CB-4CE4E4EF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23C5-A816-4616-AF71-A903BAAC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E8B-77BC-461D-B449-80B19C3B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4CF-1B57-4C43-8D6B-1ED36054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1198-5AB4-41B4-AEC7-7BA1A57A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53B-13E2-4229-AE51-99FAF699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08ED-789B-4389-8B0C-0898C541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096-43C9-4EC9-BE22-E317B5A0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F6BB-998F-4B5F-9305-48FB556B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8110-0800-4523-B013-F78E3545E3E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DBA5-16B6-44EE-ABE9-74FF8C9D1A8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G Times"/>
              </a:rPr>
              <a:t>Regional perspectives under the Clean Development Mechanism</a:t>
            </a:r>
            <a:br>
              <a:rPr sz="4400"/>
            </a:b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CG Times"/>
              </a:rPr>
              <a:t>Jose Domingos Gonzalez Miguez,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G Times"/>
              </a:rPr>
              <a:t>Ministry of Science and Technology, Braz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jects N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5400" y="2727360"/>
            <a:ext cx="878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toral priorities in accordance with specific national circun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720" y="3336840"/>
            <a:ext cx="749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ission reductions quantified on a project by project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5360" y="2193840"/>
            <a:ext cx="8259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ype of projects : emission reductions (and sink enhancements 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DM 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9120" y="2879640"/>
            <a:ext cx="6396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mestic policy and measures in Annex I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I Projects among Anne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missions Trading among Anne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69120" y="1660680"/>
            <a:ext cx="6527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nex I Kyoto Protocol emission reductions tar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73440" y="4251240"/>
            <a:ext cx="2085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CDM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9840" y="4937040"/>
            <a:ext cx="4939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all part of tar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ket of high economic signific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rigins of CD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88840" y="1660680"/>
            <a:ext cx="8091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razilian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 efficient manner to negotiate the sharing of the burden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of mitigating climat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blishment of a “Clean Development Fund”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- penalty for non-compliance with target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- financial resources to be applied in mitagation projects and a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small fraction in adaptation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97840" y="4251240"/>
            <a:ext cx="317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77 and China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92080" y="4708440"/>
            <a:ext cx="6210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 Bilateral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jection of the ideas of “penalties” and “fu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chanism for involvement of private se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rther flexibility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velopment of a common gro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lean Development 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1712880"/>
            <a:ext cx="84358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ctives: Promote sustainable development in non Annex I and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and contribute to the ultimate objective of the Convention, and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Help Annex I Parties to comply with Protocol tar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e CDM is the constructive way to involve developing countri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n the global effort to mitigate climate chang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  no additional commitments to non Annex I Parti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-  financial resources and technology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Convention on Climate Change is the adequate negotiating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forum for discussing and establishing the procedures and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guidelines of C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LADE Workshop is an important opportunity for advancing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the exchange of ideas in our region and ensuring the success of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OP 4 in Buenos Aires, Argen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lean Development 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8840" y="1509840"/>
            <a:ext cx="8761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nsates non-achievement of targets by Annex I Parti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hrough additional mitigation efforts done in non Annex I Parti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voiding additional global w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w low cost opportunities in mitigation projects in Annex I and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ide scope for low cost emission reductions projects in non Anne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ew and additional financial resources proportional t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n-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rease participation of developing countries in the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lementation of the Convention additional to existing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mit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crete way of transfering financial resources and technologi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 developing countries to allow implementation of the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low development in developing countries to occur in a less carbon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ntensive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pecific Guidelines for the Development of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96640" y="2193840"/>
            <a:ext cx="74815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ject or trade shoul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ibute to the achievement of the objectives of the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ad to climate change mit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e emission reductions that can be measured and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er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 and JI apply only to Annex I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exibility mechanisms should be implemented sepa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jects should follow same guidelines and certification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imilarities and Differences among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8720" y="1889280"/>
            <a:ext cx="80258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mila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I &amp; ET apply only to Annex I and involve exchanging cred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I &amp; CDM are project by project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I &amp; CDM need definition for bas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 is based on (certified ?) inven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 depends on 1990 emission levels (quality of information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JI is bilater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M is multi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DM Institutional Arran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4920" y="2116080"/>
            <a:ext cx="7576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M shall be controlled by the Parties under CoP guidance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d control through a representative Executive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0040" y="2954160"/>
            <a:ext cx="85280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B/CD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osed of a small group of representatives of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lected on the basis of parity among regions of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equately balanced representation of Annex I &amp; non Anne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680" y="1536840"/>
            <a:ext cx="256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ecutive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5120" y="4862520"/>
            <a:ext cx="82695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pprove and adopt methodology for cer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istration and evaluation of certifying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ltimate responsibility for certification, auditing and monitoring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emission re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mote development and transparency of CDM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0400" y="4478400"/>
            <a:ext cx="6294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uidelines should be developed for the EB/C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DM Institutional Arran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23920" y="1889280"/>
            <a:ext cx="350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ignated National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16720" y="2651040"/>
            <a:ext cx="79743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blish additional country especific criteria for acceptanc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f projects in accordance with national priorities for sustainabl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aluate, approve and certify submitted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rease awareness on CDM by private and public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ordination with other CDM international insta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22840" y="5013360"/>
            <a:ext cx="6134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le of Other Climate Change Related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3520" y="5470560"/>
            <a:ext cx="3947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EP, UNDP, IDB, GEF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ertification, Monitoring &amp; Ver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640" y="2117880"/>
            <a:ext cx="1939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DM 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3600" y="1835280"/>
            <a:ext cx="520920" cy="444240"/>
          </a:xfrm>
          <a:prstGeom prst="rightArrow">
            <a:avLst>
              <a:gd name="adj1" fmla="val 50000"/>
              <a:gd name="adj2" fmla="val 58635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03600" y="2521080"/>
            <a:ext cx="520920" cy="444240"/>
          </a:xfrm>
          <a:prstGeom prst="rightArrow">
            <a:avLst>
              <a:gd name="adj1" fmla="val 50000"/>
              <a:gd name="adj2" fmla="val 58635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67320" y="1812960"/>
            <a:ext cx="268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ject certif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68760" y="2575080"/>
            <a:ext cx="301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zation monitoring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d aud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4120" y="3489480"/>
            <a:ext cx="255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rtification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0880" y="3946680"/>
            <a:ext cx="7865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at is the object of the certifica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ch will be the entity responsible for methodology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evelop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at will be the strategy for development of methodolog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at is the definition of baseline for a specific proj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ow will the certifying entities be select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hich types of projects will be allow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23:42:15Z</dcterms:created>
  <dc:creator>Coordenacao de Informatica</dc:creator>
  <dc:description/>
  <dc:language>en-US</dc:language>
  <cp:lastModifiedBy>Juan Zak</cp:lastModifiedBy>
  <cp:lastPrinted>1998-05-22T13:42:24Z</cp:lastPrinted>
  <dcterms:modified xsi:type="dcterms:W3CDTF">1998-05-26T21:48:37Z</dcterms:modified>
  <cp:revision>23</cp:revision>
  <dc:subject/>
  <dc:title>Specific Principles to Guide Development of Mechanisms</dc:title>
</cp:coreProperties>
</file>