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F11-79E8-4CD8-BE65-206644F6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C27B-51F1-416D-A499-C3CEAFF9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06E9-DEF8-4447-8F62-25AC17EBC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3CAA-0FD1-4827-8B0C-D2E99CB7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3F87-D574-417C-B977-57172ED0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DEA-6275-4FA2-9CF4-C3BCCAEA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7F67-3D5C-427F-9CDC-56E31896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22D-01B1-42FD-8879-706A552B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971-5FD9-40A6-A0EF-93F87144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678-67A3-41AB-803C-2CC711FB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7D8-F599-4E8F-985A-F17559F5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AC52-4C19-4A19-B795-DA17A125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A945-5D45-4122-AD00-3566BB5BD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848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tional Communications, enabling activities and The Global Environment Fac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441972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ick R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P Regional GEF Coordinator for Latin America and the Caribb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8088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839080" cy="49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duction to G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aterials available in b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F Financing of Enabling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F support to Enabling Activities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c: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s as strategic framework for technical as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nve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F proposal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685800"/>
            <a:ext cx="763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countries of LAC are receiving GEF assistance to formulate and submit EAs with exception of Dominican Republic and Colo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6920" y="2895480"/>
            <a:ext cx="76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tal GEF assistance rel. To EAs: $US 18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886200"/>
            <a:ext cx="903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US 6 x million  - CPACC - Anglophone S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US 9 x million  - UNDP - channeled EA proposals for 29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CC: Train - Five LAC count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UNEP - channeled support to Ha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W.B. - channeled support to St. Vin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2880" y="609480"/>
            <a:ext cx="755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missions of First Nat’l Communications to UNFC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- Worldwide of which 3 are from L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gentina, Mexico, Urugu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5240" y="2819520"/>
            <a:ext cx="726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C:  Support - $US 3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assist countries in producing Nat’l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Work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echnical assistance and backst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Exchange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2160" y="563868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C: support is programmed to start in August 199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438280"/>
            <a:ext cx="762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GEF EA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 Coverage whithat du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  Appropriate sequency of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  Use of best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  cost effect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F financing initiated in late 94 with small # of proposing countries:  Argentina, USA, followed by Brazil, Mexico, Costa Rica and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8960" y="3733920"/>
            <a:ext cx="6629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7 contries worlwide have submitted           National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3 of these are from LAC:  Argentina, Mexico, Urugu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3124080"/>
            <a:ext cx="7467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2T15:18:18Z</dcterms:created>
  <dc:creator>INFORMATICA</dc:creator>
  <dc:description/>
  <dc:language>en-US</dc:language>
  <cp:lastModifiedBy>Juan Zak</cp:lastModifiedBy>
  <cp:lastPrinted>1998-06-17T20:25:37Z</cp:lastPrinted>
  <dcterms:modified xsi:type="dcterms:W3CDTF">1998-06-18T16:53:28Z</dcterms:modified>
  <cp:revision>6</cp:revision>
  <dc:subject/>
  <dc:title>National Communications, enabling activities and The Global Environment Facility</dc:title>
</cp:coreProperties>
</file>