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24.png" ContentType="image/png"/>
  <Override PartName="/ppt/media/image1.png" ContentType="image/png"/>
  <Override PartName="/ppt/media/Ciencia-Bip.wav" ContentType="audio/x-wav"/>
  <Override PartName="/ppt/media/image3.png" ContentType="image/png"/>
  <Override PartName="/ppt/media/image5.png" ContentType="image/png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192D-3E05-4A97-8740-3AB797CA25F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961-00E8-48F4-8001-ED3F0F6E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B19-4604-459E-B594-D400365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C4D-1736-4684-808E-C14A461D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8C8-9F8B-4444-859D-9F0D0839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4FD3-5478-4997-9991-BD22059D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1048-CD2D-4C25-B043-F6EA99DB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2A2F-5CFE-4F9F-822B-5EC7A4C1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DAF9-F1AA-4860-894A-796B1EB7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FFFF-ACFE-46B2-ABBB-8AB78A7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3E5E-F87D-4902-B127-74A05D30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58DC-FB31-4858-8BB1-DFF0A9B9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B58-1F16-48B5-A009-A7E63B6B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13B4-1CEF-476E-87B8-27209A57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C57A-8566-459B-A4C8-C7D9CA9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0F59-5F95-4218-B322-F8AA1F7C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B197-18D2-4E44-9435-9D56A94C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901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77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901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77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6289-E2A5-4D54-B646-356A6E2C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483-51E3-42F6-8294-3302BC23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FA1-15FE-47D6-8D19-58236E5F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F5B-37EC-4C37-A512-9CF2076A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474F-78C9-4B84-ACAE-A63B1664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6E1-6F4F-4FDD-84F7-3F4249E1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4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EA0-A154-4CAB-89AC-3AE419B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4E4-281B-4D6A-A04A-27DA6CFE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137160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A21E-1CC6-4602-B644-44C27380F8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3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B39E-352F-409E-BDBB-5878D2FE25B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iencia-Bip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iencia-Bip.wav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audio" Target="../media/Ciencia-Bip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5486400"/>
            <a:ext cx="7918560" cy="16524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057400"/>
            <a:ext cx="8001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EFECTOS  ECONÓMICO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DE  L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APLICACIÓN  D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PROTOCOLO  DE  KIOT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867280"/>
            <a:ext cx="8477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cc99"/>
                </a:solidFill>
                <a:latin typeface="Times New Roman"/>
              </a:rPr>
              <a:t>SEMINARIO LATINOAMERICANO SOBRE GASES DE EFECTO INVERNADERO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cc"/>
                </a:solidFill>
                <a:latin typeface="Times New Roman"/>
              </a:rPr>
              <a:t>QUITO, 21-22 DE MAYO  DE  1998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15960" y="609480"/>
            <a:ext cx="7918560" cy="764280"/>
            <a:chOff x="615960" y="609480"/>
            <a:chExt cx="7918560" cy="764280"/>
          </a:xfrm>
        </p:grpSpPr>
        <p:sp>
          <p:nvSpPr>
            <p:cNvPr id="98" name=""/>
            <p:cNvSpPr/>
            <p:nvPr/>
          </p:nvSpPr>
          <p:spPr>
            <a:xfrm>
              <a:off x="1066680" y="609480"/>
              <a:ext cx="7467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99ccff"/>
                  </a:solidFill>
                  <a:latin typeface="Times New Roman"/>
                </a:rPr>
                <a:t>LUIS ALBERTO VILLANUEVA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66ff"/>
                  </a:solidFill>
                  <a:latin typeface="Times New Roman"/>
                </a:rPr>
                <a:t>MINISTERIO DE ENERGÍA Y MINAS DE VENEZUELA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15960" y="647640"/>
              <a:ext cx="1224720" cy="578880"/>
              <a:chOff x="615960" y="647640"/>
              <a:chExt cx="1224720" cy="578880"/>
            </a:xfrm>
          </p:grpSpPr>
          <p:sp>
            <p:nvSpPr>
              <p:cNvPr id="100" name=""/>
              <p:cNvSpPr/>
              <p:nvPr/>
            </p:nvSpPr>
            <p:spPr>
              <a:xfrm>
                <a:off x="615960" y="859680"/>
                <a:ext cx="419040" cy="366840"/>
              </a:xfrm>
              <a:custGeom>
                <a:avLst/>
                <a:gdLst/>
                <a:ahLst/>
                <a:rect l="l" t="t" r="r" b="b"/>
                <a:pathLst>
                  <a:path w="545" h="285">
                    <a:moveTo>
                      <a:pt x="0" y="0"/>
                    </a:moveTo>
                    <a:lnTo>
                      <a:pt x="0" y="285"/>
                    </a:lnTo>
                    <a:lnTo>
                      <a:pt x="93" y="285"/>
                    </a:lnTo>
                    <a:lnTo>
                      <a:pt x="93" y="86"/>
                    </a:lnTo>
                    <a:lnTo>
                      <a:pt x="274" y="256"/>
                    </a:lnTo>
                    <a:lnTo>
                      <a:pt x="455" y="86"/>
                    </a:lnTo>
                    <a:lnTo>
                      <a:pt x="455" y="285"/>
                    </a:lnTo>
                    <a:lnTo>
                      <a:pt x="545" y="285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0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5960" y="749880"/>
                <a:ext cx="419040" cy="332640"/>
              </a:xfrm>
              <a:custGeom>
                <a:avLst/>
                <a:gdLst/>
                <a:ahLst/>
                <a:rect l="l" t="t" r="r" b="b"/>
                <a:pathLst>
                  <a:path w="545" h="259">
                    <a:moveTo>
                      <a:pt x="0" y="0"/>
                    </a:moveTo>
                    <a:lnTo>
                      <a:pt x="0" y="86"/>
                    </a:lnTo>
                    <a:lnTo>
                      <a:pt x="93" y="86"/>
                    </a:lnTo>
                    <a:lnTo>
                      <a:pt x="274" y="259"/>
                    </a:lnTo>
                    <a:lnTo>
                      <a:pt x="455" y="86"/>
                    </a:lnTo>
                    <a:lnTo>
                      <a:pt x="545" y="86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5960" y="647640"/>
                <a:ext cx="419040" cy="329760"/>
              </a:xfrm>
              <a:custGeom>
                <a:avLst/>
                <a:gdLst/>
                <a:ahLst/>
                <a:rect l="l" t="t" r="r" b="b"/>
                <a:pathLst>
                  <a:path w="545" h="256">
                    <a:moveTo>
                      <a:pt x="0" y="0"/>
                    </a:moveTo>
                    <a:lnTo>
                      <a:pt x="0" y="84"/>
                    </a:lnTo>
                    <a:lnTo>
                      <a:pt x="93" y="84"/>
                    </a:lnTo>
                    <a:lnTo>
                      <a:pt x="274" y="256"/>
                    </a:lnTo>
                    <a:lnTo>
                      <a:pt x="455" y="84"/>
                    </a:lnTo>
                    <a:lnTo>
                      <a:pt x="545" y="84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31400" y="647640"/>
                <a:ext cx="392040" cy="1094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1400" y="762120"/>
                <a:ext cx="392040" cy="109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1400" y="862560"/>
                <a:ext cx="392040" cy="109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21640" y="859680"/>
                <a:ext cx="419040" cy="366840"/>
              </a:xfrm>
              <a:custGeom>
                <a:avLst/>
                <a:gdLst/>
                <a:ahLst/>
                <a:rect l="l" t="t" r="r" b="b"/>
                <a:pathLst>
                  <a:path w="545" h="285">
                    <a:moveTo>
                      <a:pt x="0" y="0"/>
                    </a:moveTo>
                    <a:lnTo>
                      <a:pt x="0" y="285"/>
                    </a:lnTo>
                    <a:lnTo>
                      <a:pt x="93" y="285"/>
                    </a:lnTo>
                    <a:lnTo>
                      <a:pt x="93" y="86"/>
                    </a:lnTo>
                    <a:lnTo>
                      <a:pt x="274" y="256"/>
                    </a:lnTo>
                    <a:lnTo>
                      <a:pt x="455" y="86"/>
                    </a:lnTo>
                    <a:lnTo>
                      <a:pt x="455" y="285"/>
                    </a:lnTo>
                    <a:lnTo>
                      <a:pt x="545" y="285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0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21640" y="749880"/>
                <a:ext cx="419040" cy="332640"/>
              </a:xfrm>
              <a:custGeom>
                <a:avLst/>
                <a:gdLst/>
                <a:ahLst/>
                <a:rect l="l" t="t" r="r" b="b"/>
                <a:pathLst>
                  <a:path w="545" h="259">
                    <a:moveTo>
                      <a:pt x="0" y="0"/>
                    </a:moveTo>
                    <a:lnTo>
                      <a:pt x="0" y="86"/>
                    </a:lnTo>
                    <a:lnTo>
                      <a:pt x="93" y="86"/>
                    </a:lnTo>
                    <a:lnTo>
                      <a:pt x="274" y="259"/>
                    </a:lnTo>
                    <a:lnTo>
                      <a:pt x="455" y="86"/>
                    </a:lnTo>
                    <a:lnTo>
                      <a:pt x="545" y="86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21640" y="647640"/>
                <a:ext cx="419040" cy="329760"/>
              </a:xfrm>
              <a:custGeom>
                <a:avLst/>
                <a:gdLst/>
                <a:ahLst/>
                <a:rect l="l" t="t" r="r" b="b"/>
                <a:pathLst>
                  <a:path w="545" h="256">
                    <a:moveTo>
                      <a:pt x="0" y="0"/>
                    </a:moveTo>
                    <a:lnTo>
                      <a:pt x="0" y="84"/>
                    </a:lnTo>
                    <a:lnTo>
                      <a:pt x="93" y="84"/>
                    </a:lnTo>
                    <a:lnTo>
                      <a:pt x="274" y="256"/>
                    </a:lnTo>
                    <a:lnTo>
                      <a:pt x="455" y="84"/>
                    </a:lnTo>
                    <a:lnTo>
                      <a:pt x="545" y="84"/>
                    </a:lnTo>
                    <a:lnTo>
                      <a:pt x="545" y="0"/>
                    </a:lnTo>
                    <a:lnTo>
                      <a:pt x="455" y="0"/>
                    </a:lnTo>
                    <a:lnTo>
                      <a:pt x="274" y="17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TECEDEN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ste efecto es posible debido a las concentraciones de gases invernadero en la atmósfera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16765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as emisiones de gases invernadero afectan las concentraciones, pero no inmediatamente, sino que se requieren en algunos casos cientos de añ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l  efecto  de  cada  gas  es  difere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l posible incremento de las concentraciones, sería el resultado de las emisiones históricas de los países desarrollad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La responsabilidad común pero diferenciada es reconocida en los acuerdos internaciona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TECEDEN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anel Intergubernamental de Cambios Climáticos  (IPCC),  1988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mité Intergubernamental de Negociación (INC),  1989-1994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nvención Marco de Naciones Unidas sobre el  Cambio  Climático  (FCCC),  1992, 1994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Grupo Ad-Hoc para el Mandato de Berlín (AGBM),  1995-1997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rotocolo  de  Kioto,  1997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L PROTOCOLO DE KIOT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OBJETIVO: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052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tabilizar las concentraciones de gases de efecto invernadero en la atmósfera, a un nivel que prevenga una peligrosa interferencia con el sistema climático.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Tal nivel deberá ser alcanzado en un margen de tiempo que permita a los ecosistemas adaptarse en forma natural al cambio climático, que no ponga en peligro la producción de alimentos y que garantice el desarrollo económico de manera sostenible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L PROTOCOLO - MET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Los países desarrollados tienen una meta global de 5% de reducción con respecto al nivel de 1990, en el período 2008-2012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165744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tas individuales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E.E.U.U. - 7%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Unión Europea: - 8%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Japón:  - 6%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Federación Rusa:  0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Australia: + 8%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Los países en desarrollo no tienen metas de reducción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LÍTICAS Y MEDID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ejoras en la eficiencia energética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Promoción de fuentes nuevas y renovables de energía, de tecnologías de captación de carbono y de nuevas tecnologías ambiental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liminación progresiva de las distorsiones del mercado opuestas al objetivo de la Conven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formas en los sectores relevantes para reducir las emision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emisiones en el sector transporte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63880" indent="-263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emisiones de metan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120" y="1603440"/>
            <a:ext cx="802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ada país desarrollado deberá poner en práctica políticas y medidas, tales como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LÍTICAS Y MEDID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120" y="1603440"/>
            <a:ext cx="802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países desarrollados en conjunto deberán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operar para mejorar la efectividad de estas políticas y medida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ender a la reducción de emisiones provenientes de los combustibles marinos y aéreo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ratar de minimizar los efectos económicos, sociales y ambientales de esas políticas sobre los países en desarroll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SIBLES EFEC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rcado Petrolero Internacional: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Substitución inter-fósiles e inter-fuentes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Efectos negativos sobre la demanda petrolera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Baja en los precios del petróle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80972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ncarecimiento de las importaciones de bienes y servicios provenientes de países desarrollados. 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las exportaciones hacia los países desarrollad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educción de inversiones provenientes de países desarrollad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Inflación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SIBLES EFEC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Aumento de competitividad de países sin compromisos con economías emergent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Desarrollo rápido de tecnologías limpias e incentivos para su acceso al mercad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3960" y="173340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igración de industrias de alta intensidad energética a países sin compromis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CERTIDUMB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Ratifica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88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Período de Compromis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ntabilización de los sumider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mercialización de emisione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Implementación conjunt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misiones de Países en Transición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canismo de desarrollo limpi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mpromisos de los países en desarroll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umplimient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S MATEMÁTIC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GREEN (Burniaux et al., 1991)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RTM (Rutherford, 1993)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EGABARE 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stralian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ureau of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gricultural and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source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E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conomics, 1996)</a:t>
            </a: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odelo IIAM 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nternational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pact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ssessment 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odel, Bernstein, Montgomery y Rutherford, 1996)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ESENTACIÓ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Efecto Invernader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Antecedentes del Proces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de Kioto - Objetivo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Meta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Políticas y Medida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Posibles Efect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El Protocolo - Incertidumbre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Modelos Matemáticos y Efectos Económicos: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 algn="just">
              <a:lnSpc>
                <a:spcPct val="7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Producto Interno Bruto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 algn="just">
              <a:lnSpc>
                <a:spcPct val="7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Balanza Comercial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lvl="1" marL="586800" indent="-225720" algn="just">
              <a:lnSpc>
                <a:spcPct val="70000"/>
              </a:lnSpc>
              <a:spcBef>
                <a:spcPts val="64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cc66"/>
                </a:solidFill>
                <a:latin typeface="Times New Roman"/>
              </a:rPr>
              <a:t>Exportaciones, etc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270720" indent="-270720" algn="just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cc66"/>
                </a:solidFill>
                <a:latin typeface="Times New Roman"/>
              </a:rPr>
              <a:t>Conclusione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MEGABA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odelo Dinámico de Equilibrio General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36 regiones a nivel mundial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41 sectores por reg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etas de reducción uniformes y lineal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Incorpora el comercio internacional y el flujo de inversion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Simula las posibles medidas de menor costo mediante la aplicación de un impuesto al contenido de carbon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Dos escenarios: estabilización y 15% de reducción  al  2010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MEGABA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14480" y="2057400"/>
          <a:ext cx="97153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057400"/>
                    <a:ext cx="97153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2010 en Relación a la Referencia (Países en Desarrollo)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MEGABA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14480" y="2610000"/>
          <a:ext cx="8704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610000"/>
                    <a:ext cx="8704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roducto en 2010 por Sectores en Relación a la Referencia (Países en Desarrollo)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odelo Dinámico de Equilibrio General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5 grandes regiones de comercio internacional combinadas con 80 paíse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Tratamiento dinámico del ahorro y la inversión en períodos de 5 años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Metas individuales de reduc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Aplica un impuesto al contenido de carbono igual al costo marginal de reducción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Dos escenarios: libre comercio y proteccionism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14480" y="2400480"/>
          <a:ext cx="90090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400480"/>
                    <a:ext cx="90090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Relación a la Referenci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Libre Mercad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4480" y="2228760"/>
          <a:ext cx="9009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28760"/>
                    <a:ext cx="9009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Relación a la Referenci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Libre Mercad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4480" y="2305080"/>
          <a:ext cx="9009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305080"/>
                    <a:ext cx="9009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l PTB en Relación a la Referencia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Proteccionism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14480" y="2305080"/>
          <a:ext cx="92772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305080"/>
                    <a:ext cx="92772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Reducción Anual del PTB en 10</a:t>
            </a:r>
            <a:r>
              <a:rPr b="0" i="1" lang="en-US" sz="2600" spc="-1" strike="noStrike" baseline="30000">
                <a:solidFill>
                  <a:srgbClr val="ff9900"/>
                </a:solidFill>
                <a:latin typeface="Times New Roman"/>
              </a:rPr>
              <a:t> 9</a:t>
            </a: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 US$ en Relación a la Referencia -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Proteccionism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14480" y="2343240"/>
          <a:ext cx="90090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343240"/>
                    <a:ext cx="90090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 Balanza Comercial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Libre Mercad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14480" y="2247840"/>
          <a:ext cx="900900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47840"/>
                    <a:ext cx="900900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 Balanza Comercial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Proteccionism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11120" y="1758960"/>
            <a:ext cx="6956640" cy="4567320"/>
          </a:xfrm>
          <a:prstGeom prst="rect">
            <a:avLst/>
          </a:prstGeom>
          <a:ln w="0">
            <a:noFill/>
          </a:ln>
        </p:spPr>
      </p:pic>
    </p:spTree>
  </p:cSld>
  <p:transition>
    <p:pull dir="r"/>
    <p:sndAc>
      <p:stSnd>
        <p:snd r:embed="rId2" name="Ciencia-Bip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4480" y="2400480"/>
          <a:ext cx="9009000" cy="45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400480"/>
                    <a:ext cx="900900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s Exportaciones no Energéticas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Caso de Libre Mer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14480" y="2400480"/>
          <a:ext cx="9353520" cy="45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400480"/>
                    <a:ext cx="9353520" cy="45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Absoluta de la Balanza Comercial no Energética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en 10 </a:t>
            </a:r>
            <a:r>
              <a:rPr b="0" i="1" lang="en-US" sz="2400" spc="-1" strike="noStrike" baseline="30000">
                <a:solidFill>
                  <a:srgbClr val="ff9900"/>
                </a:solidFill>
                <a:latin typeface="Times New Roman"/>
              </a:rPr>
              <a:t>9 </a:t>
            </a: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 US$ - Caso de Libre Mer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4480" y="2266920"/>
          <a:ext cx="8418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66920"/>
                    <a:ext cx="8418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74840" y="1616040"/>
            <a:ext cx="824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Variación Porcentual de las Exportaciones de Petróleo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Times New Roman"/>
              </a:rPr>
              <a:t>en Relación a la Re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MODELO IIAM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14480" y="2266920"/>
          <a:ext cx="8646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2266920"/>
                    <a:ext cx="8646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474840" y="1616040"/>
            <a:ext cx="824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Pérdida Acumulada en 10</a:t>
            </a:r>
            <a:r>
              <a:rPr b="0" i="1" lang="en-US" sz="2600" spc="-1" strike="noStrike" baseline="30000">
                <a:solidFill>
                  <a:srgbClr val="ff9900"/>
                </a:solidFill>
                <a:latin typeface="Times New Roman"/>
              </a:rPr>
              <a:t>9</a:t>
            </a: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 US$ por Baja en las Exportaciones de Petróleo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resultados de estos modelos sólo deben considerarse como una indicación de lo que podrían ser los efectos directos de la aplicación del Protocolo de Kiot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04880" y="182880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efectos indirectos sobre los países en desarrollo resultantes de la aplicación del comercio de emisiones y del mecanismo de desarrollo limpio son completamente inciertos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xiste el riesgo de que el costo de la aplicación de este Protocolo sea transferido a los países en desarrollo, con el agravante de no poder acudir a la OMC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  <p:sndAc>
      <p:stSnd>
        <p:snd r:embed="rId1" name="Ciencia-Bip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23960" y="167652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Existe un alto grado de incertidumbre sobre la extensión y magnitud de los efectos económicos de la aplicación del Protocolo de Kioto sobre los países en desarrollo.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943280"/>
            <a:ext cx="794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países desarrollados van a verse afectados negativamente. La magnitud de esos efectos dependerá de los mecanismos que se pongan en práctica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Los posibles efectos económicos resultantes de la degradación ambiental por la no aplicación del Protocolo son casi imposibles de determinar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¿PREGUNTA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52560" y="1785960"/>
          <a:ext cx="7296120" cy="44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85960"/>
                    <a:ext cx="7296120" cy="44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"/>
    <p:sndAc>
      <p:stSnd>
        <p:snd r:embed="rId3" name="Ciencia-Bip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1798560"/>
            <a:ext cx="9144000" cy="5059440"/>
            <a:chOff x="0" y="1798560"/>
            <a:chExt cx="9144000" cy="5059440"/>
          </a:xfrm>
        </p:grpSpPr>
        <p:graphicFrame>
          <p:nvGraphicFramePr>
            <p:cNvPr id="115" name=""/>
            <p:cNvGraphicFramePr/>
            <p:nvPr/>
          </p:nvGraphicFramePr>
          <p:xfrm>
            <a:off x="7564320" y="1798560"/>
            <a:ext cx="1579680" cy="505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64320" y="1798560"/>
                      <a:ext cx="1579680" cy="505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0" y="2394000"/>
            <a:ext cx="2879640" cy="28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394000"/>
                      <a:ext cx="287964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9" name=""/>
          <p:cNvSpPr/>
          <p:nvPr/>
        </p:nvSpPr>
        <p:spPr>
          <a:xfrm>
            <a:off x="0" y="240048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95920" y="1828800"/>
            <a:ext cx="1390680" cy="419040"/>
          </a:xfrm>
          <a:prstGeom prst="wedgeRectCallout">
            <a:avLst>
              <a:gd name="adj1" fmla="val -2624"/>
              <a:gd name="adj2" fmla="val 207199"/>
            </a:avLst>
          </a:prstGeom>
          <a:gradFill rotWithShape="0">
            <a:gsLst>
              <a:gs pos="0">
                <a:srgbClr val="cc66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z So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867280"/>
            <a:ext cx="1390680" cy="419400"/>
          </a:xfrm>
          <a:prstGeom prst="wedgeRectCallout">
            <a:avLst>
              <a:gd name="adj1" fmla="val -50569"/>
              <a:gd name="adj2" fmla="val -183712"/>
            </a:avLst>
          </a:prstGeom>
          <a:gradFill rotWithShape="0">
            <a:gsLst>
              <a:gs pos="0">
                <a:srgbClr val="cc66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lej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6280" y="1676520"/>
            <a:ext cx="1390680" cy="419040"/>
          </a:xfrm>
          <a:prstGeom prst="wedgeRectCallout">
            <a:avLst>
              <a:gd name="adj1" fmla="val -8106"/>
              <a:gd name="adj2" fmla="val 134467"/>
            </a:avLst>
          </a:prstGeom>
          <a:gradFill rotWithShape="0">
            <a:gsLst>
              <a:gs pos="0">
                <a:srgbClr val="cc66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orb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38480" y="2674440"/>
            <a:ext cx="5753160" cy="2765520"/>
            <a:chOff x="2238480" y="2674440"/>
            <a:chExt cx="5753160" cy="2765520"/>
          </a:xfrm>
        </p:grpSpPr>
        <p:sp>
          <p:nvSpPr>
            <p:cNvPr id="124" name=""/>
            <p:cNvSpPr/>
            <p:nvPr/>
          </p:nvSpPr>
          <p:spPr>
            <a:xfrm flipH="1" flipV="1">
              <a:off x="2657160" y="3094200"/>
              <a:ext cx="5219640" cy="3650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790720" y="3465360"/>
              <a:ext cx="4972320" cy="355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2809800" y="3874680"/>
              <a:ext cx="4896000" cy="34596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2771640" y="4236840"/>
              <a:ext cx="4934160" cy="34596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2600280" y="4618080"/>
              <a:ext cx="5200560" cy="36504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238480" y="2674440"/>
              <a:ext cx="5734080" cy="4222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257560" y="5017680"/>
              <a:ext cx="5734080" cy="4222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02560" y="1356840"/>
            <a:ext cx="2859840" cy="4980960"/>
            <a:chOff x="2302560" y="1356840"/>
            <a:chExt cx="2859840" cy="4980960"/>
          </a:xfrm>
        </p:grpSpPr>
        <p:sp>
          <p:nvSpPr>
            <p:cNvPr id="132" name=""/>
            <p:cNvSpPr/>
            <p:nvPr/>
          </p:nvSpPr>
          <p:spPr>
            <a:xfrm flipV="1">
              <a:off x="2781360" y="3009960"/>
              <a:ext cx="2171520" cy="45720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857680" y="3828960"/>
              <a:ext cx="2304720" cy="3816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81360" y="4229280"/>
              <a:ext cx="2286000" cy="32364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363040" y="1356840"/>
              <a:ext cx="1483920" cy="126684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02560" y="4996800"/>
              <a:ext cx="1624320" cy="134100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743200" y="2209680"/>
              <a:ext cx="1752480" cy="85752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10000" y="4629240"/>
              <a:ext cx="1923840" cy="857160"/>
            </a:xfrm>
            <a:prstGeom prst="line">
              <a:avLst/>
            </a:prstGeom>
            <a:ln cap="rnd" w="25560">
              <a:solidFill>
                <a:srgbClr val="ffcc66"/>
              </a:solidFill>
              <a:custDash>
                <a:ds d="100000" sp="1000"/>
              </a:custDash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352680" y="2546280"/>
          <a:ext cx="288000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546280"/>
                    <a:ext cx="28800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162240" y="2419200"/>
            <a:ext cx="3200400" cy="3181680"/>
          </a:xfrm>
          <a:prstGeom prst="donut">
            <a:avLst>
              <a:gd name="adj" fmla="val 1388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52720" y="2190600"/>
            <a:ext cx="3638520" cy="3600720"/>
          </a:xfrm>
          <a:prstGeom prst="donut">
            <a:avLst>
              <a:gd name="adj" fmla="val 10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2000160"/>
            <a:ext cx="4057560" cy="396252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33680" y="1771560"/>
            <a:ext cx="4514760" cy="440064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14880" y="255276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57640" y="2514600"/>
            <a:ext cx="2952720" cy="2952720"/>
          </a:xfrm>
          <a:prstGeom prst="donut">
            <a:avLst>
              <a:gd name="adj" fmla="val 3925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28760" y="1486080"/>
            <a:ext cx="5124600" cy="4895640"/>
          </a:xfrm>
          <a:prstGeom prst="donut">
            <a:avLst>
              <a:gd name="adj" fmla="val 37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72280" y="2209680"/>
            <a:ext cx="1885680" cy="381240"/>
          </a:xfrm>
          <a:prstGeom prst="wedgeRectCallout">
            <a:avLst>
              <a:gd name="adj1" fmla="val -14560"/>
              <a:gd name="adj2" fmla="val -30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Emit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15040" y="2190600"/>
            <a:ext cx="2019240" cy="438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257640" y="2514600"/>
            <a:ext cx="2975040" cy="2952720"/>
            <a:chOff x="3257640" y="2514600"/>
            <a:chExt cx="2975040" cy="2952720"/>
          </a:xfrm>
        </p:grpSpPr>
        <p:graphicFrame>
          <p:nvGraphicFramePr>
            <p:cNvPr id="152" name=""/>
            <p:cNvGraphicFramePr/>
            <p:nvPr/>
          </p:nvGraphicFramePr>
          <p:xfrm>
            <a:off x="3352680" y="2546280"/>
            <a:ext cx="2880000" cy="28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2546280"/>
                      <a:ext cx="28800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3257640" y="2514600"/>
              <a:ext cx="2952720" cy="2952720"/>
            </a:xfrm>
            <a:prstGeom prst="donut">
              <a:avLst>
                <a:gd name="adj" fmla="val 392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90600" y="1523880"/>
            <a:ext cx="5162760" cy="4915080"/>
          </a:xfrm>
          <a:prstGeom prst="donut">
            <a:avLst>
              <a:gd name="adj" fmla="val 24310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62240" y="2419200"/>
            <a:ext cx="3200400" cy="3181680"/>
          </a:xfrm>
          <a:prstGeom prst="donut">
            <a:avLst>
              <a:gd name="adj" fmla="val 1388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52720" y="2190600"/>
            <a:ext cx="3638520" cy="3600720"/>
          </a:xfrm>
          <a:prstGeom prst="donut">
            <a:avLst>
              <a:gd name="adj" fmla="val 10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2000160"/>
            <a:ext cx="4057560" cy="396252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33680" y="1771560"/>
            <a:ext cx="4514760" cy="440064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14880" y="255276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8760" y="1486080"/>
            <a:ext cx="5124600" cy="4895640"/>
          </a:xfrm>
          <a:prstGeom prst="donut">
            <a:avLst>
              <a:gd name="adj" fmla="val 37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72280" y="2209680"/>
            <a:ext cx="1885680" cy="381240"/>
          </a:xfrm>
          <a:prstGeom prst="wedgeRectCallout">
            <a:avLst>
              <a:gd name="adj1" fmla="val -14560"/>
              <a:gd name="adj2" fmla="val -30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Emit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72480" y="5981760"/>
            <a:ext cx="1885680" cy="380880"/>
          </a:xfrm>
          <a:prstGeom prst="wedgeRectCallout">
            <a:avLst>
              <a:gd name="adj1" fmla="val -119611"/>
              <a:gd name="adj2" fmla="val -105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ósf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2685960"/>
            <a:ext cx="2685960" cy="2590920"/>
          </a:xfrm>
          <a:prstGeom prst="donut">
            <a:avLst>
              <a:gd name="adj" fmla="val 221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47880" y="1276200"/>
            <a:ext cx="5886360" cy="5353200"/>
          </a:xfrm>
          <a:prstGeom prst="donut">
            <a:avLst>
              <a:gd name="adj" fmla="val 37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257640" y="2514600"/>
            <a:ext cx="2975040" cy="2952720"/>
            <a:chOff x="3257640" y="2514600"/>
            <a:chExt cx="2975040" cy="2952720"/>
          </a:xfrm>
        </p:grpSpPr>
        <p:graphicFrame>
          <p:nvGraphicFramePr>
            <p:cNvPr id="168" name=""/>
            <p:cNvGraphicFramePr/>
            <p:nvPr/>
          </p:nvGraphicFramePr>
          <p:xfrm>
            <a:off x="3352680" y="2546280"/>
            <a:ext cx="2880000" cy="287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52680" y="2546280"/>
                      <a:ext cx="2880000" cy="28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"/>
            <p:cNvSpPr/>
            <p:nvPr/>
          </p:nvSpPr>
          <p:spPr>
            <a:xfrm>
              <a:off x="3257640" y="2514600"/>
              <a:ext cx="2952720" cy="2952720"/>
            </a:xfrm>
            <a:prstGeom prst="donut">
              <a:avLst>
                <a:gd name="adj" fmla="val 3925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90600" y="1523880"/>
            <a:ext cx="5162760" cy="4915080"/>
          </a:xfrm>
          <a:prstGeom prst="donut">
            <a:avLst>
              <a:gd name="adj" fmla="val 24310"/>
            </a:avLst>
          </a:prstGeom>
          <a:gradFill rotWithShape="0">
            <a:gsLst>
              <a:gs pos="0">
                <a:srgbClr val="99cc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62240" y="2419200"/>
            <a:ext cx="3200400" cy="3181680"/>
          </a:xfrm>
          <a:prstGeom prst="donut">
            <a:avLst>
              <a:gd name="adj" fmla="val 1388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52720" y="2190600"/>
            <a:ext cx="3638520" cy="3600720"/>
          </a:xfrm>
          <a:prstGeom prst="donut">
            <a:avLst>
              <a:gd name="adj" fmla="val 104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000160"/>
            <a:ext cx="4057560" cy="396252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33680" y="1771560"/>
            <a:ext cx="4514760" cy="4400640"/>
          </a:xfrm>
          <a:prstGeom prst="donut">
            <a:avLst>
              <a:gd name="adj" fmla="val 58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4880" y="2552760"/>
            <a:ext cx="2876400" cy="2876400"/>
          </a:xfrm>
          <a:prstGeom prst="donut">
            <a:avLst>
              <a:gd name="adj" fmla="val 1986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2280" y="2209680"/>
            <a:ext cx="1885680" cy="381240"/>
          </a:xfrm>
          <a:prstGeom prst="wedgeRoundRectCallout">
            <a:avLst>
              <a:gd name="adj1" fmla="val -14560"/>
              <a:gd name="adj2" fmla="val -30833"/>
              <a:gd name="adj3" fmla="val 16667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Emit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72480" y="6000840"/>
            <a:ext cx="1885680" cy="380880"/>
          </a:xfrm>
          <a:prstGeom prst="wedgeRectCallout">
            <a:avLst>
              <a:gd name="adj1" fmla="val -119611"/>
              <a:gd name="adj2" fmla="val -105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ósf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685960"/>
            <a:ext cx="2685960" cy="2590920"/>
          </a:xfrm>
          <a:prstGeom prst="donut">
            <a:avLst>
              <a:gd name="adj" fmla="val 2217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8560" y="2152800"/>
            <a:ext cx="1390680" cy="3657600"/>
          </a:xfrm>
          <a:prstGeom prst="wedgeRectCallout">
            <a:avLst>
              <a:gd name="adj1" fmla="val 206962"/>
              <a:gd name="adj2" fmla="val 3342"/>
            </a:avLst>
          </a:prstGeom>
          <a:gradFill rotWithShape="0">
            <a:gsLst>
              <a:gs pos="0">
                <a:srgbClr val="ff9900"/>
              </a:gs>
              <a:gs pos="100000">
                <a:srgbClr val="ffcc66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72280" y="2209680"/>
            <a:ext cx="2209680" cy="381240"/>
          </a:xfrm>
          <a:prstGeom prst="wedgeRectCallout">
            <a:avLst>
              <a:gd name="adj1" fmla="val -12861"/>
              <a:gd name="adj2" fmla="val 9166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or Reflej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8560" y="1523880"/>
            <a:ext cx="2152800" cy="381240"/>
          </a:xfrm>
          <a:prstGeom prst="wedgeRectCallout">
            <a:avLst>
              <a:gd name="adj1" fmla="val 69541"/>
              <a:gd name="adj2" fmla="val 244166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por de Agu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9000" y="2324160"/>
            <a:ext cx="1009800" cy="419040"/>
          </a:xfrm>
          <a:prstGeom prst="wedgeRectCallout">
            <a:avLst>
              <a:gd name="adj1" fmla="val 146384"/>
              <a:gd name="adj2" fmla="val 1083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0560" y="3067200"/>
            <a:ext cx="1066680" cy="399960"/>
          </a:xfrm>
          <a:prstGeom prst="wedgeRectCallout">
            <a:avLst>
              <a:gd name="adj1" fmla="val 130504"/>
              <a:gd name="adj2" fmla="val 7301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8560" y="6000840"/>
            <a:ext cx="2152800" cy="380880"/>
          </a:xfrm>
          <a:prstGeom prst="wedgeRectCallout">
            <a:avLst>
              <a:gd name="adj1" fmla="val 72199"/>
              <a:gd name="adj2" fmla="val -215833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tros G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90560" y="3809880"/>
            <a:ext cx="1066680" cy="400320"/>
          </a:xfrm>
          <a:prstGeom prst="wedgeRectCallout">
            <a:avLst>
              <a:gd name="adj1" fmla="val 125148"/>
              <a:gd name="adj2" fmla="val -17458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0560" y="4552920"/>
            <a:ext cx="1066680" cy="399960"/>
          </a:xfrm>
          <a:prstGeom prst="wedgeRectCallout">
            <a:avLst>
              <a:gd name="adj1" fmla="val 123361"/>
              <a:gd name="adj2" fmla="val -60319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0560" y="5276880"/>
            <a:ext cx="1066680" cy="399960"/>
          </a:xfrm>
          <a:prstGeom prst="wedgeRectCallout">
            <a:avLst>
              <a:gd name="adj1" fmla="val 146578"/>
              <a:gd name="adj2" fmla="val -146032"/>
            </a:avLst>
          </a:prstGeom>
          <a:gradFill rotWithShape="0">
            <a:gsLst>
              <a:gs pos="0">
                <a:srgbClr val="cc6600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F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81160" y="2514600"/>
            <a:ext cx="7219800" cy="3828960"/>
            <a:chOff x="1181160" y="2514600"/>
            <a:chExt cx="7219800" cy="3828960"/>
          </a:xfrm>
        </p:grpSpPr>
        <p:sp>
          <p:nvSpPr>
            <p:cNvPr id="191" name=""/>
            <p:cNvSpPr/>
            <p:nvPr/>
          </p:nvSpPr>
          <p:spPr>
            <a:xfrm>
              <a:off x="5676840" y="5867280"/>
              <a:ext cx="2724120" cy="476280"/>
            </a:xfrm>
            <a:prstGeom prst="wedgeRectCallout">
              <a:avLst>
                <a:gd name="adj1" fmla="val -23486"/>
                <a:gd name="adj2" fmla="val 21333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nsumo de Energí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10360" y="25146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gricultur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39000" y="4514760"/>
              <a:ext cx="2152440" cy="400320"/>
            </a:xfrm>
            <a:prstGeom prst="wedgeRectCallout">
              <a:avLst>
                <a:gd name="adj1" fmla="val -30606"/>
                <a:gd name="adj2" fmla="val 25398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Uso de la Tierr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19440" y="441972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ndustria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1160" y="37530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81160" y="544824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anaderí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5619600" y="5632560"/>
          <a:ext cx="283860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9600" y="5632560"/>
                    <a:ext cx="28386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824040" y="4867200"/>
          <a:ext cx="25239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4040" y="4867200"/>
                    <a:ext cx="2523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838080" y="3198960"/>
          <a:ext cx="2511720" cy="166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198960"/>
                    <a:ext cx="251172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359160" y="3200400"/>
          <a:ext cx="2254320" cy="332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9160" y="3200400"/>
                    <a:ext cx="2254320" cy="33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600880" y="3805200"/>
          <a:ext cx="2857320" cy="183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0880" y="3805200"/>
                    <a:ext cx="2857320" cy="18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5608800" y="1981080"/>
          <a:ext cx="2849400" cy="1847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08800" y="1981080"/>
                    <a:ext cx="284940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76240" y="2000160"/>
            <a:ext cx="4533840" cy="1028880"/>
          </a:xfrm>
          <a:prstGeom prst="wedgeRectCallout">
            <a:avLst>
              <a:gd name="adj1" fmla="val -37393"/>
              <a:gd name="adj2" fmla="val 22995"/>
            </a:avLst>
          </a:prstGeom>
          <a:gradFill rotWithShape="0">
            <a:gsLst>
              <a:gs pos="0">
                <a:srgbClr val="cc6600"/>
              </a:gs>
              <a:gs pos="100000">
                <a:srgbClr val="ff9900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dades humanas que gener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ses de efecto inverna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1181160" y="2514600"/>
            <a:ext cx="6838920" cy="3429000"/>
            <a:chOff x="1181160" y="2514600"/>
            <a:chExt cx="6838920" cy="3429000"/>
          </a:xfrm>
        </p:grpSpPr>
        <p:sp>
          <p:nvSpPr>
            <p:cNvPr id="212" name=""/>
            <p:cNvSpPr/>
            <p:nvPr/>
          </p:nvSpPr>
          <p:spPr>
            <a:xfrm>
              <a:off x="6210360" y="25146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elva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00800" y="4533840"/>
              <a:ext cx="1600200" cy="399960"/>
            </a:xfrm>
            <a:prstGeom prst="wedgeRectCallout">
              <a:avLst>
                <a:gd name="adj1" fmla="val -23907"/>
                <a:gd name="adj2" fmla="val 25398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osque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9440" y="441972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Océano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1160" y="3753000"/>
              <a:ext cx="1809720" cy="457200"/>
            </a:xfrm>
            <a:prstGeom prst="wedgeRectCallout">
              <a:avLst>
                <a:gd name="adj1" fmla="val -39560"/>
                <a:gd name="adj2" fmla="val 28472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eforestació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9760" y="5524560"/>
              <a:ext cx="1352520" cy="419040"/>
            </a:xfrm>
            <a:prstGeom prst="wedgeRectCallout">
              <a:avLst>
                <a:gd name="adj1" fmla="val -36032"/>
                <a:gd name="adj2" fmla="val 26513"/>
              </a:avLst>
            </a:prstGeom>
            <a:gradFill rotWithShape="0">
              <a:gsLst>
                <a:gs pos="0">
                  <a:srgbClr val="cc6600"/>
                </a:gs>
                <a:gs pos="100000">
                  <a:srgbClr val="ff9900"/>
                </a:gs>
              </a:gsLst>
              <a:lin ang="8100000"/>
            </a:gradFill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ago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5548320" y="2070000"/>
          <a:ext cx="30146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8320" y="2070000"/>
                    <a:ext cx="30146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868320" y="3429000"/>
          <a:ext cx="4675320" cy="319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3429000"/>
                    <a:ext cx="467532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FECTO INVERNAD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76240" y="2114640"/>
            <a:ext cx="4362480" cy="914400"/>
          </a:xfrm>
          <a:prstGeom prst="wedgeRectCallout">
            <a:avLst>
              <a:gd name="adj1" fmla="val -36898"/>
              <a:gd name="adj2" fmla="val 19620"/>
            </a:avLst>
          </a:prstGeom>
          <a:gradFill rotWithShape="0">
            <a:gsLst>
              <a:gs pos="0">
                <a:srgbClr val="cc6600"/>
              </a:gs>
              <a:gs pos="100000">
                <a:srgbClr val="ff9900"/>
              </a:gs>
            </a:gsLst>
            <a:lin ang="8100000"/>
          </a:gradFill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umideros y reservorios de g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fecto inverna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6T02:25:44Z</dcterms:created>
  <dc:creator>LUIS VILLANUEVA</dc:creator>
  <dc:description/>
  <dc:language>en-US</dc:language>
  <cp:lastModifiedBy>LUIS VILLANUEVA</cp:lastModifiedBy>
  <dcterms:modified xsi:type="dcterms:W3CDTF">1998-05-14T16:32:34Z</dcterms:modified>
  <cp:revision>186</cp:revision>
  <dc:subject/>
  <dc:title>ANTECEDENTES</dc:title>
</cp:coreProperties>
</file>